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DC02-57ED-4CF5-8717-2EA51A0036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ABC0-BF36-4864-9C76-4E66A051563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A4C9-022B-4F57-9B92-96EE66A4CF2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EEF5-CD39-4FEC-A3BF-3069B34621A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4E82-1314-4F45-8B7F-8E1714EE703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A565-6E4E-4D62-B96C-32D96C52CB2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9E444-F3AF-4807-BC83-ECB3A227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2B4DA-09FF-42AC-9C69-BCB725F2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9AD58-6032-4BD5-9F51-8CB43821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59912-CC3F-44C3-BB23-20419EC1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11E7B-553D-407B-AECB-69F8F031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AEF59-D2EC-4660-A22B-39EB05D2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F976C-16E6-4E9D-BB77-4E2FAC8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FE106-9AD2-4C2A-9767-093EFA00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2FE7D-AD8E-4A86-BF19-5C7807D8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04963-2F15-4CF3-AB98-BD8A43A4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DF197-4F38-4908-9F50-B9097147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4BC15-A991-4DA5-BFAA-3899B278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6DEBA-CE39-436D-BC72-381EB778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D1A49-3919-4467-B48B-4218792A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03425-AD6D-4B26-B4EF-91A5D242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6F45A-DD49-4992-A440-DF72882F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86A3F-8DD2-4439-A255-005CF1DA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9147F-9645-4AEA-9FB7-CC523049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C7FFE-CA4C-47AA-B918-B7225F8B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AA00D-D4E4-4A88-A493-5B1560BA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46017-F2EB-4158-9DA4-749C9D39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2EB96-3C66-48A9-A990-600380F0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D4548-B05A-46D7-BFD9-6A47B2B6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6750F-1304-47B1-9CBE-08CD568A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37AD-F064-460A-8DF6-DD31B38B553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F014-B08B-489A-A517-E3440B4BE0D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D90A-B805-4070-8EF8-85796A24D58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5013-3561-44B8-9402-033F8240BAC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0043-C9AB-4998-98CB-1C2E39F255A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B059-5580-4713-AB44-C3332B745EC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BBB0-76FA-4B99-B113-BB9CFE4FD21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1D44-1BE0-4FF7-B50E-0E63A0B32E5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42920" y="0"/>
            <a:ext cx="9001080" cy="6259680"/>
            <a:chOff x="142920" y="0"/>
            <a:chExt cx="9001080" cy="6259680"/>
          </a:xfrm>
        </p:grpSpPr>
        <p:grpSp>
          <p:nvGrpSpPr>
            <p:cNvPr id="521" name="그룹 1"/>
            <p:cNvGrpSpPr/>
            <p:nvPr/>
          </p:nvGrpSpPr>
          <p:grpSpPr>
            <a:xfrm>
              <a:off x="142920" y="500040"/>
              <a:ext cx="8929080" cy="5759640"/>
              <a:chOff x="142920" y="500040"/>
              <a:chExt cx="8929080" cy="5759640"/>
            </a:xfrm>
          </p:grpSpPr>
          <p:sp>
            <p:nvSpPr>
              <p:cNvPr id="522" name="AutoShape 2"/>
              <p:cNvSpPr/>
              <p:nvPr/>
            </p:nvSpPr>
            <p:spPr>
              <a:xfrm>
                <a:off x="142920" y="1357200"/>
                <a:ext cx="8820720" cy="485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AutoShape 4"/>
              <p:cNvSpPr/>
              <p:nvPr/>
            </p:nvSpPr>
            <p:spPr>
              <a:xfrm>
                <a:off x="285480" y="50004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Text Box 6"/>
              <p:cNvSpPr/>
              <p:nvPr/>
            </p:nvSpPr>
            <p:spPr>
              <a:xfrm>
                <a:off x="251280" y="1465200"/>
                <a:ext cx="8820720" cy="47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6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도시에 거주하지만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가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자체의 재정자립도 낮아 노인복지 한계로 농촌 노인문제 심화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구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.9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 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5" name="Picture 2" descr="C:\DOCUME~1\USER\LOCALS~1\Temp\UNI0000080471b7.gif"/>
            <p:cNvPicPr/>
            <p:nvPr/>
          </p:nvPicPr>
          <p:blipFill>
            <a:blip r:embed="rId8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858520" cy="6215400"/>
              <a:chOff x="142920" y="142560"/>
              <a:chExt cx="885852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1280" y="1149120"/>
                <a:ext cx="8750160" cy="50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이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당국은‘의도적으로 눈을 감아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중될 것으로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520"/>
            <a:chOff x="0" y="0"/>
            <a:chExt cx="9144000" cy="650052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560"/>
              <a:chOff x="142560" y="1785960"/>
              <a:chExt cx="8929800" cy="47145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85840"/>
            <a:ext cx="9001080" cy="6357960"/>
            <a:chOff x="0" y="285840"/>
            <a:chExt cx="900108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42560" y="285840"/>
              <a:ext cx="8858520" cy="5446800"/>
              <a:chOff x="142560" y="285840"/>
              <a:chExt cx="8858520" cy="544680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120" y="28584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42560" y="1143000"/>
                <a:ext cx="8858520" cy="450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285120" y="1197000"/>
                <a:ext cx="871596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nom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79280" y="0"/>
            <a:ext cx="8821800" cy="6438600"/>
            <a:chOff x="179280" y="0"/>
            <a:chExt cx="8821800" cy="643860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79280" y="3170160"/>
              <a:ext cx="8821800" cy="3268440"/>
              <a:chOff x="179280" y="3170160"/>
              <a:chExt cx="8821800" cy="326844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79280" y="3566880"/>
                <a:ext cx="878688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및 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기능과 사회적 역할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전후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각의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840" y="142560"/>
              <a:ext cx="728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2920" y="13186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% +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프리카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2920" y="42670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71280" y="71280"/>
            <a:ext cx="9215640" cy="6286680"/>
            <a:chOff x="71280" y="71280"/>
            <a:chExt cx="921564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1280" y="71280"/>
              <a:ext cx="9000000" cy="1847880"/>
              <a:chOff x="71280" y="71280"/>
              <a:chExt cx="900000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1280" y="642960"/>
                <a:ext cx="900000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480" y="71280"/>
                <a:ext cx="360072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63964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71280" y="2131920"/>
              <a:ext cx="9215640" cy="4226040"/>
              <a:chOff x="71280" y="2131920"/>
              <a:chExt cx="921564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128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142560" y="2786040"/>
                <a:ext cx="914436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1.0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9.8%)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47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grpSp>
          <p:nvGrpSpPr>
            <p:cNvPr id="515" name="그룹 1"/>
            <p:cNvGrpSpPr/>
            <p:nvPr/>
          </p:nvGrpSpPr>
          <p:grpSpPr>
            <a:xfrm>
              <a:off x="181080" y="214200"/>
              <a:ext cx="8820000" cy="4516560"/>
              <a:chOff x="181080" y="214200"/>
              <a:chExt cx="8820000" cy="4516560"/>
            </a:xfrm>
          </p:grpSpPr>
          <p:sp>
            <p:nvSpPr>
              <p:cNvPr id="516" name="AutoShape 2"/>
              <p:cNvSpPr/>
              <p:nvPr/>
            </p:nvSpPr>
            <p:spPr>
              <a:xfrm>
                <a:off x="181080" y="928440"/>
                <a:ext cx="8820000" cy="3724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288720" y="1000080"/>
                <a:ext cx="8640720" cy="37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2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7.6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.4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져 정책우선순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결정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19" name="Picture 2" descr="C:\DOCUME~1\USER\LOCALS~1\Temp\UNI00000c2870a4.gif"/>
            <p:cNvPicPr/>
            <p:nvPr/>
          </p:nvPicPr>
          <p:blipFill>
            <a:blip r:embed="rId6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19:41:32Z</dcterms:modified>
  <cp:revision>18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